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781-0337-4490-8616-EF3495F4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CF6F-866E-438B-A3A4-D718D494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018-3D6A-4676-A59A-973D7C2F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788-225F-4F89-AF41-721B3CC1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8A8-E5CB-496F-AD6B-756FDE3E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6D6-4089-48DF-9581-8278D7E9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141-3205-4D17-A3AA-352EED2C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B88-F78F-4918-AA4C-5A24526D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CF8-F252-4618-8ED6-2FDD5438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CF9-FFE8-428E-8DBD-61381CA3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6AA-5352-4BFC-ABAC-2E1A10D4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402-AF70-44E1-A88E-10392B21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CDF05-B292-459F-A6AE-4AFC05D47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ficial flag of the “Know-Nothing” Pa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6868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78840"/>
            <a:ext cx="9829800" cy="17053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ativist cartoon showing a Irish immigrant and a German immigrant stealing a ballot box during an election (185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30184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 commonly placed in businesses in the mid-1800'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9520" y="1600200"/>
            <a:ext cx="9350280" cy="59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441360"/>
            <a:ext cx="75438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6172200" cy="690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5:45:51Z</dcterms:created>
  <dc:creator/>
  <dc:description/>
  <dc:language>en-US</dc:language>
  <cp:lastModifiedBy/>
  <cp:revision>1</cp:revision>
  <dc:subject/>
  <dc:title/>
</cp:coreProperties>
</file>